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0F9-629E-4287-BA08-31CE3FE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876-8A37-4576-9A2D-12CD6455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787-9C4C-4553-A74C-DDF7200C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643-115B-44CA-B2C9-49B0B9F6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15A-C1DB-4E04-823C-7BBBCCF2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3E7-FED5-424A-994E-5006F8C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B70D-F11A-4FD6-964E-0CE07152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AE42-CD26-4380-853F-88A281F4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9CCF-BBB7-47DF-A76A-498B47C3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13D-2ECA-4369-98D4-4E9AAC76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FC07-F4BD-4172-93FD-37FEC68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336-A9BA-42F0-9188-764CB5A4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D8CF-4EB1-4704-8F1F-7C446FE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BF22-93B6-4934-897B-3E805E0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80A5-4C3F-4593-AB5D-C558D75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9DE0-7AF8-4FD8-8062-634CCC94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89A-CCCD-49F1-877E-251AB6BD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79D-3511-4721-ADB2-0A65A20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326-981F-47D2-A80C-93E4317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058-FF1D-4FCE-BF7A-C601A56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A00-C546-4040-A7C9-036F63C3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48B-957D-408B-AA1A-CA8191FA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212-C81E-4666-ADC1-4732A43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87D-B73F-45F0-BB54-1C5F11D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B97F-9BF0-4D72-A1A1-0161CEF4396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C524-F475-48C4-97F1-3B287D994F0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enior Til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: $10.00 during Midter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Clean-up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ving it to April (Spring Break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24480" y="4114800"/>
          <a:ext cx="28195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114800"/>
                    <a:ext cx="28195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4110120"/>
          <a:ext cx="32004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110120"/>
                    <a:ext cx="3200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114800"/>
          <a:ext cx="312408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114800"/>
                    <a:ext cx="3124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0"/>
          <a:ext cx="297180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29718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971800" y="0"/>
          <a:ext cx="32767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0"/>
                    <a:ext cx="3276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248520" y="0"/>
          <a:ext cx="289548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0"/>
                    <a:ext cx="2895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6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B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C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20,000</a:t>
            </a:r>
            <a:r>
              <a:rPr b="1" lang="en-US" sz="3200" spc="-1" strike="noStrike" u="sng" baseline="30000">
                <a:solidFill>
                  <a:srgbClr val="ffffcc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Stu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500.00 award to student to be presented at Gradu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?  Goal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Dodgeb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udent Tournament on March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ulty Tournament on March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cussions underway with GHS and C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-Shirt Desig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k a desig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.00 due by next Friday (12/1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 be back by the beginning of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 options…pick your favorit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57200"/>
          <a:ext cx="9144000" cy="59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0"/>
          <a:ext cx="688644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88644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85640" y="0"/>
          <a:ext cx="8048880" cy="68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0"/>
                    <a:ext cx="804888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369720"/>
          <a:ext cx="9144000" cy="610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9720"/>
                    <a:ext cx="914400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66880" y="0"/>
          <a:ext cx="736272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6880" y="0"/>
                    <a:ext cx="7362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2-10T20:20:54Z</dcterms:modified>
  <cp:revision>2</cp:revision>
  <dc:subject/>
  <dc:title>NSG Meeting – 10/30/2008</dc:title>
</cp:coreProperties>
</file>