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A76-EBCE-4351-BE42-C84140FA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CFB-B190-4175-832D-9467C327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988-2850-4BC1-A8AB-2D639617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BF4-B4B4-4ED3-B15E-23155FB1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FD0B-9552-4854-8FBD-C1AE1C7B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F23A-12CF-4F40-B10B-1FBC8FC2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893F-9588-42C0-8E15-16F11809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FC37-856F-4DC4-ABA6-F2743774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47DC-86CB-4169-9CD7-121FED6E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C1D9-6A63-44F9-A0EE-83ED110B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0735-896C-4DC1-A70A-DA4ED3AA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A72-4DB3-41A2-A1D4-E5E12E01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FA10-5F8E-448F-8FCE-677007D9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8D41-9D7E-48D2-9D6A-FEF6F3C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BCE5-C7FC-4B83-9067-0B77B1B5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DA58-8D5A-4415-9AEC-64409304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B23-F04E-41C7-9A49-B057D90F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BA3-4D6E-47D2-8D92-3A5A7075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ED4-FA2D-41DF-9A85-B65CAF51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6B1-BF86-40E2-ACC1-44C4764B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48E-23B5-4595-A102-7766089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606-26F2-45EA-B806-239FD80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C02-BBC9-4416-AFC1-87644EBB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004-37E5-4A88-A114-B291F77A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44E6-E938-489C-8B2B-289D5B1BD8D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A9AB-0BF6-415E-8D59-19CDE6A2C40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0/3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20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mecoming Wrap-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04 tickets sold / 680 attend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arly 100 outside stud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over $7,000 (with a $2,203 profit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blems, suggestions, etc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ing up next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-Shirts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eaning activity (Decembe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iling tile project (Januar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dgeball V (February / Marc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0-30T18:44:55Z</dcterms:modified>
  <cp:revision>1</cp:revision>
  <dc:subject/>
  <dc:title>NSG Meeting – 10/30/2008</dc:title>
</cp:coreProperties>
</file>