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6CA-C88A-4F15-9372-FD58DCA4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02A-2363-4296-8B46-CEC7A8C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17C-DBD5-4470-AE5D-72A6BE89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A66-FF10-460F-A336-424D2825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273-A921-4D65-8456-DB9A22A1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067-2CDE-40B4-8370-8E46B83D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1CEF-3E3B-44C3-A588-25E48EB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D685-84F5-4C0E-A9AA-DBBA6FDB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985-A628-4478-A5DB-37306504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8D2D-9D85-4F98-9ED2-2237923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1661-FE81-458A-ACF0-243D234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90F-2CA2-4C62-AE70-92F5192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509-CEBB-4239-A1C8-18A746C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AF7A-0003-4503-87AB-FB36646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7F5-07F5-46ED-9F74-A892809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185D-EFBF-4B40-BD48-81DE9B26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15B-9EA0-416A-A240-2B4A467F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F13-7F74-4E2E-9519-B14463EA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E8A-3267-4549-9D95-38D3ACB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740-4D0E-4D72-BCA0-DC63FB05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E07-11BE-41C0-850E-EADA3F6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7B2-18A7-46B8-B9DF-BCF5A9A4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364-CFD5-4594-9899-4822BBE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D02-1EE5-45AB-B40C-377785B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A3FD-FDA0-4DAC-95E2-3BC09EF0D59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7715-5B86-4F7F-8481-45766AA24FC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0/3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mecoming Wrap-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04 tickets sold / 680 atten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arly 100 outside stud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over $7,000 (with a $2,203 profit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blems, suggestions, etc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ing up nex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-Shirt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eaning activity (Decemb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iling tile project (Januar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dgeball V (February / Marc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0-30T18:44:55Z</dcterms:modified>
  <cp:revision>1</cp:revision>
  <dc:subject/>
  <dc:title>NSG Meeting – 10/30/2008</dc:title>
</cp:coreProperties>
</file>