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48E-C704-4679-B58F-308F2688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39A-DC4E-4E1F-BC48-4FFF31CF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E72-4A4F-415E-B40B-4FBB643A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FC3-0A19-4359-AB63-D7E714DE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B8BB-B910-4659-BDC5-F8433FAB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EF4D-556F-49A6-BA08-2FE3C1D3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31C3-3834-411F-BD6C-8907FB28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0115-458D-44E3-AC64-863855CC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9E10-E137-45B4-BDC5-DC8F1086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B18C-EBD1-4484-8A8F-38F57840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E773-337D-40EF-83E9-0665DC8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3FC-DA70-4D51-A486-FC8BA6DB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DBBF-07F4-42A5-87B6-77F6FEC7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58B4-2EB6-41C3-BA63-DE291A21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DF38-D4DA-486C-9477-71F75749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D78F-B473-49CA-8539-451F477F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FD60-F46E-43D8-8C74-FD9B7601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4F2-60C6-4A42-8753-255C2E52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E19-F6B6-4224-8E95-639B0073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87B-809B-4DBE-9830-35C08D37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344-DB38-43CC-B63B-CED3D838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527-D975-4B44-9D46-E2EE4796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78A-D738-43E4-879D-DCCB2919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2B3-5566-4ECD-893E-B0DAF175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108C-3520-415B-A59D-6EF8AB6CAE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1FA9-326E-4A18-A4E5-B232D409DE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ck changes to no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(10/25) will be called “Shanghai Nigh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 is now on Wednesday, 10/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l Decorations are still on Thursday,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7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-Hall: 2009 / E-Hall: 2010 / C-Hall: 2011 / D-Hall: 20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HOMECOMING FLOATS –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2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ss who has the most “registered” w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me Day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Hat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Pajama Pants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Business Attire Day (formally “Nerd Da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Seniors Teach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Spirit Day (Yellow / Black / NHS Appar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1:  Nomina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re nominated via popular vote in English classes (pick one male and one female based on your grad. Cla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 5 vote getters are on ballot for underclassmen / top 10 for seniors (who have to do the PepFest drag sh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election is held to determine win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2:  Elec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nominate themselves to get placed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signatures needed to place name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ion with all names on ballot takes p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Elections – who votes for the King and Que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1:  Everyone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2:  Just the Senior class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3:  Just the Senior and Junior classes vote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co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,0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udent??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hroom Clean-up / Ceiling Tile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ge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-in movie / Bowling Alley Mad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eld 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Construction: 9/30 and 10/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meeting: Thursday, October 2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18T18:07:03Z</dcterms:modified>
  <cp:revision>6</cp:revision>
  <dc:subject/>
  <dc:title>Welcome to E105!</dc:title>
</cp:coreProperties>
</file>