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B35B-CF00-4A3B-B7CF-5E046A905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8BD2-13A8-4228-9445-637ECB946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AC53-3264-4B1B-B6F1-CE2653ECC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8503-F00F-47E0-B308-EE344FAD8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855B9-C5BF-42F5-958E-C5DB92253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F4165-51EA-4629-AA27-A82686583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91D7B-B7E9-475A-A22D-875DF2B10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BDA8A-DCC4-4886-9759-26A6BBEA7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BB5BE-5BC4-4257-B441-C9A80C81C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A32DB-2A81-4811-9E1B-C3D36C166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3BEB8-0FEA-439E-A543-613A051D8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24BA-8CE9-47EC-A156-0B71E8645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2EE1F-13EE-447D-A363-9BE334FA9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AA8E1-4403-41AD-9FA2-F2B055F81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A91A6-AE36-4F8A-89AF-F91AEB0E9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72612-1E03-4C1E-8692-5C89025D2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CE9F8-087B-4492-88C5-2FC72BDD7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A065-B525-4495-AACD-EFB5F1B27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18EA-11DC-43B9-A918-93CBDF25D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43CF-DEC8-4285-88C7-00BAAC54E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013C-0974-48E3-ABDE-BBE9F6C0B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965A-31B0-4D24-B8AA-CEE16E62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071A-12D0-4A7D-8FC0-4E8F98C7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AC22-6FFF-47B3-9D1E-227513D1B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021B3-63EE-4A41-889A-2FD70A74C76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CB351-E50D-49ED-972A-EF02F5050C3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ick changes to note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mecoming (10/25) will be called “Shanghai Night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wderpuff is now on Wednesday, 10/2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ll Decorations are still on Thursday, 10/2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inning Class gets $750.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-Hall: 2009 / E-Hall: 2010 / C-Hall: 2011 / D-Hall: 201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HOMECOMING FLOATS – Spirit Cens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inning class gets $250.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ass who has the most “registered” wi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tudent Government Meeting (9/18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me Days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nday: Hat D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uesday: Pajama Pants D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dnesday: Business Attire Day (formally “Nerd Day”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ursday: Seniors Teach D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iday: Spirit Day (Yellow / Black / NHS Appare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tudent Government Meeting (9/18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mecoming Ele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oice #1:  Nomination Meth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udents are nominated via popular vote in English classes (pick one male and one female based on your grad. Clas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p 5 vote getters are on ballot for underclassmen / top 10 for seniors (who have to do the PepFest drag show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election is held to determine winn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oice #2:  Election Meth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udents nominate themselves to get placed on ballo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0 signatures needed to place name on ballo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ection with all names on ballot takes pla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tudent Government Meeting (9/18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mecoming Elections – who votes for the King and Quee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oice #1:  Everyone votes for King and Que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oice #2:  Just the Senior class votes for King and Que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oice #3:  Just the Senior and Junior classes vote for King and Que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tudent Government Meeting (9/18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undta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coming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0,00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udent????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throom Clean-up / Ceiling Tile Proje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dgeba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ive-in movie / Bowling Alley Madnes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eld Day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mecoming Construction: 9/30 and 10/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xt meeting: Thursday, October 2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tudent Government Meeting (9/18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1T19:36:42Z</dcterms:created>
  <dc:creator>Brent J. Freccia</dc:creator>
  <dc:description/>
  <dc:language>en-US</dc:language>
  <cp:lastModifiedBy>Brent J. Freccia</cp:lastModifiedBy>
  <dcterms:modified xsi:type="dcterms:W3CDTF">2008-09-18T18:07:03Z</dcterms:modified>
  <cp:revision>6</cp:revision>
  <dc:subject/>
  <dc:title>Welcome to E105!</dc:title>
</cp:coreProperties>
</file>