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714-A819-4FA9-B360-6F2B1F70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498-6AF3-48F0-9FE9-CFD7F6BC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51E5-5BED-4362-966B-AADEEC6A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8BF7-78BA-4A07-9E2D-D937C035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D0A3-9B24-4E8A-A739-5268E21A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2DF6-CD54-41BD-839C-414FF7A3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A942-6106-47AC-954D-A168078B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C837-778A-418A-AC42-0EE4C3BE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6CC8-D4D3-4468-8590-0707E7EA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98E0-5B8D-4120-88CC-6D36CE2C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D071-5576-4FBC-8E91-77C33604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F0E-DFDF-43D8-858B-F3B07456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BA78-92F8-4A4D-B9E9-C1AF4699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6A8F-BCD4-4A89-AA00-133EBEB9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254B-0331-4BB5-AD44-C721BBE1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BA09-836F-45B4-822D-0C8524FC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0578-D8A1-4F35-996D-DDEA11AB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1FF-A5B6-4077-A194-5EDC3C69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A761-131F-4280-BB1F-309A9B5D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853-3255-45B0-B375-61CC6A39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8CE-1F84-4817-A9C5-D3BA4911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D7D-2F55-4291-8AAD-683DA23C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572-C24C-4CB2-84BB-45D6ED93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403-5480-4F40-A9B0-5FFA4F03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0A5E-E17B-47BC-8F81-3C2D575ECC6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7F52-29D5-4906-8B12-D3CE2B6C32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ewark.wikispaces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co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pose of NS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we ope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ebsite –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newark.wikispaces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coming upd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derpuff/Hall Decorations: Thursday 10/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pFest/Game: Friday 10/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ce: Saturday 10/25 from 7-10 pm (W. Gy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floats this year / NHS Spirit Cen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ion Days / Advertis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esday 9/30 and Tuesday 10/7 (sign-u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ck the Spirit Days (pick fou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jama pants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t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smatch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in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rsey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ro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undtable / next meeting: Thursday 9/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3124080"/>
            <a:ext cx="45720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Inside-out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Backwards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Nerd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enior teach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College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9:36:42Z</dcterms:created>
  <dc:creator>Brent J. Freccia</dc:creator>
  <dc:description/>
  <dc:language>en-US</dc:language>
  <cp:lastModifiedBy>Brent J. Freccia</cp:lastModifiedBy>
  <dcterms:modified xsi:type="dcterms:W3CDTF">2008-09-03T19:33:50Z</dcterms:modified>
  <cp:revision>4</cp:revision>
  <dc:subject/>
  <dc:title>Welcome to E105!</dc:title>
</cp:coreProperties>
</file>