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DAA-2363-47E0-AE24-D26FAC86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C67-430E-4DCF-B56D-B74CEB0D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063-F53A-40B5-A3A0-2F7E23AB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707-7F96-4FD1-A1D0-7D88639C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430B-075D-4097-9669-C5D6C8B5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0839-C8F4-4037-B3AF-639EB78E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668F-7514-4D91-8C45-EA699B85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EBE1-EC6E-4651-9B0A-071339DF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F670-F788-408C-9BF6-37980A0C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7D31-159A-4866-9769-D2DFEEA0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5989-62AD-41B6-9442-43BF09F5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B80-49CF-47F5-A1B1-3596EFE3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E9D3-FE55-467B-BBF1-039D2A34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90EA-1370-4914-8060-7EA8D001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86C7-5A33-4167-B9B3-4036F49E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E64D-7C07-4A41-860C-286C2D11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3BAA-05B0-47B4-BDE6-1D3E8DC4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241-0029-43A2-8DDE-BEFEC814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9F4-DE5F-416E-B52B-CB8A324A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191-7990-4C95-9C4E-5A7E1971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52F-DE42-4D09-B283-B6B293E3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15D-B1F4-4BF7-977F-53D8296C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52D-47C7-41ED-9E45-C4A2B543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C01-49B1-4946-AA35-3493067B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0FDA-C8E7-4D4D-BC56-ECE6FB3FC8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9134-C0F4-4CB0-9121-199515E8DE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ewark.wikispaces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co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pose of NS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we ope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bsite –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newark.wikispaces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upd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derpuff/Hall Decorations: Thursday 10/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pFest/Game: Friday 10/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ce: Saturday 10/25 from 7-10 pm (W. Gy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floats this year / NHS Spirit Cen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ion Days / Advertis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 9/30 and Tuesday 10/7 (sign-u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ck the Spirit Days (pick fou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jama pants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t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smatch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in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rsey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ro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ndtable / next meeting: Thursday 9/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3124080"/>
            <a:ext cx="4572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Inside-out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Backwards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Nerd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enior teach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Colleg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9:36:42Z</dcterms:created>
  <dc:creator>Brent J. Freccia</dc:creator>
  <dc:description/>
  <dc:language>en-US</dc:language>
  <cp:lastModifiedBy>Brent J. Freccia</cp:lastModifiedBy>
  <dcterms:modified xsi:type="dcterms:W3CDTF">2008-09-03T19:33:50Z</dcterms:modified>
  <cp:revision>4</cp:revision>
  <dc:subject/>
  <dc:title>Welcome to E105!</dc:title>
</cp:coreProperties>
</file>