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972B-5B25-4649-9DE9-94D9B146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2F13-046B-48A1-9F6D-6796E2E4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044-D137-4EEF-A36F-17F8EEAC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7FE-2977-46B6-B1F6-292E0BF9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D316-640F-4903-89F4-58BFCC4C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31CE-2B66-4E8E-8779-172C8180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E96A-1640-493A-8E09-36336BE8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3405-0240-4D74-BEB8-842E3714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C7D5-0AF1-47CA-9813-8FBEF09E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1BAB-10E8-4254-AB73-2A072421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3DFA-6EE5-4EEA-830B-33EAF2A0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32C-F2BA-447C-B6CD-F95EA0C9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5844-2239-4742-9294-B63EE0AC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1F2F-5FD5-459E-8923-71B7AF2C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2AE3-613C-4DBF-AA9B-A1ED6161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29FA-43FB-4BF2-BE2A-6E85427D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7395-C147-45C2-9EBF-D84F0512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076-5515-476F-997A-8CA3E07B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E57-05B6-462B-9E93-AA84E495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51A-8714-4EFF-82BE-034D5BD7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0D9-3517-4573-A384-BE85416B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5B1-1A36-498C-85C0-80ED2056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4FE-B5A3-459D-A75A-47C2964D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C05-C9C1-4A2E-B281-1D5F5DD7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B765-7336-409D-B136-3FACA4AA164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9208-DD1C-4B83-A748-23FCB356C47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Senior Tile pro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st: $10.00 during Midter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Update on Clean-up pro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ving it to April (Spring Break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324480" y="4114800"/>
          <a:ext cx="2819520" cy="27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4114800"/>
                    <a:ext cx="281952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124080" y="4110120"/>
          <a:ext cx="3200400" cy="274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4110120"/>
                    <a:ext cx="320040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114800"/>
          <a:ext cx="3124080" cy="27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4114800"/>
                    <a:ext cx="31240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0"/>
          <a:ext cx="2971800" cy="284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0"/>
                    <a:ext cx="297180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971800" y="0"/>
          <a:ext cx="3276720" cy="2819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71800" y="0"/>
                    <a:ext cx="32767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248520" y="0"/>
          <a:ext cx="2895480" cy="2819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48520" y="0"/>
                    <a:ext cx="2895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26668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B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C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E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F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20,000</a:t>
            </a:r>
            <a:r>
              <a:rPr b="1" lang="en-US" sz="3200" spc="-1" strike="noStrike" u="sng" baseline="30000">
                <a:solidFill>
                  <a:srgbClr val="ffffcc"/>
                </a:solidFill>
                <a:uFillTx/>
                <a:latin typeface="Arial"/>
              </a:rPr>
              <a:t>th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 Stud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$500.00 award to student to be presented at Gradua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ame?  Goals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ing Committee members to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Update on Dodgeba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tudent Tournament on March 19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aculty Tournament on March 20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scussions underway with GHS and CH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2/1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T-Shirt Desig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ick a desig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$10.00 due by next Friday (12/19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ll be back by the beginning of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 options…pick your favorite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914400" y="0"/>
          <a:ext cx="716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0"/>
                    <a:ext cx="716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457200"/>
          <a:ext cx="9144000" cy="598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7200"/>
                    <a:ext cx="914400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90720" y="0"/>
          <a:ext cx="6886440" cy="683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0"/>
                    <a:ext cx="688644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85640" y="0"/>
          <a:ext cx="8048880" cy="68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0"/>
                    <a:ext cx="804888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369720"/>
          <a:ext cx="9144000" cy="610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69720"/>
                    <a:ext cx="9144000" cy="610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866880" y="0"/>
          <a:ext cx="7362720" cy="685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6880" y="0"/>
                    <a:ext cx="736272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4:26:20Z</dcterms:created>
  <dc:creator>Brent J. Freccia</dc:creator>
  <dc:description/>
  <dc:language>en-US</dc:language>
  <cp:lastModifiedBy>Brent J. Freccia</cp:lastModifiedBy>
  <dcterms:modified xsi:type="dcterms:W3CDTF">2008-12-10T20:20:54Z</dcterms:modified>
  <cp:revision>2</cp:revision>
  <dc:subject/>
  <dc:title>NSG Meeting – 10/30/2008</dc:title>
</cp:coreProperties>
</file>