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72C-2D02-463D-9486-C435C800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B30-309A-4CB2-B2ED-BF1F6429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A8A-A692-4E44-A299-A8B322DE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4EC-82DB-4730-BE72-6A6F57C5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21E0-FFB2-4EE4-87B7-E2EB8B8D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D815-4ADC-49A6-ABD9-8729E57C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2112-FA08-4A65-B91D-5199EBFF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E7EE-E539-4328-AE1F-9BD82FA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40ED-6DAD-40FF-982C-8868639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CCA0-BE04-477E-8B61-90E20776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15BD-AB12-488E-A581-BAB44569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6EF-C150-4109-9917-18FC7ED4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CCDF-3A68-458A-862A-C9B387A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DA0A-8D32-4755-A39D-C01EFE44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487C-E733-456B-A774-F9E552BB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7AF2-8742-4972-AE80-1838782F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8536-7150-41C6-ABD2-F55B26EE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885-3F89-4C92-A12E-D78A063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48F-D595-48D0-A3FB-7A49F656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CF7-FEB8-46B5-993F-12FACEFA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2CA-0597-40D1-89FC-5AFE1D29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BC2-CFAC-4111-AA4F-E26DA94C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2F6-527E-41E3-A4FD-AA5E07D0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80D-71CE-44DC-822D-B83720C0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6D10-FF14-4C84-BB98-9E732D8D470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BF49-7A34-4563-9453-A8772753808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0/3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20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mecoming Wrap-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04 tickets sold / 680 attend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arly 100 outside stud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over $7,000 (with a $2,203 profit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blems, suggestions, etc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ing up next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-Shirts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eaning activity (Decembe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iling tile project (Januar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dgeball V (February / Marc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0-30T18:44:55Z</dcterms:modified>
  <cp:revision>1</cp:revision>
  <dc:subject/>
  <dc:title>NSG Meeting – 10/30/2008</dc:title>
</cp:coreProperties>
</file>