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9D6-E7C4-447E-A401-C3558D7E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3E8-6EAF-407C-AF3A-39C1533A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F02-A4DB-43E0-9DBD-A2896688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38A-BDB5-4B42-9380-D8C8E7D1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DF9F-DD44-41BB-8682-111CF8AC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28FC-7B17-4DA3-A70D-AF953CE8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CCCD-779A-4787-8C46-53889D93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DBA5-A1B1-41EB-8D6F-91B21B17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380F-59A9-4ED4-B220-49E3238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370C-1C57-4F79-A478-1D3F2D0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F006-8210-485E-BA59-D7367D0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BDE-0ED3-46A7-92A0-75C61BCE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5A38-9651-437A-B34B-7A7B4D6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5886-7AE3-4DF2-A79B-3C06EA07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9EE3-E3C3-40DC-89B8-BD85A522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6F1B-A27D-4A43-8475-2D5B85B3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09F4-DF6E-452D-9435-BA131109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7A5-6001-47D5-9F89-702586D2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BD1-564B-47BB-A2D4-18C45510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DBA-F152-4382-8AE8-4471747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DAF-7DB3-4544-86C4-044D96CE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5CE-2BBD-4F8E-8178-BE1DE8F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3D4-3B4B-413B-9DBD-03F6D0F3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C95-7B91-42F2-9958-61BF075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C917-D7DA-4017-BF63-54D26AF1E78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8302-1824-432E-9DA2-4779A8BE76C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0/3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20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mecoming Wrap-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04 tickets sold / 680 atten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arly 100 outside stud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over $7,000 (with a $2,203 profit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blems, suggestions, etc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ing up nex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-Shirt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eaning activity (Decemb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iling tile project (Januar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dgeball V (February / Marc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0-30T18:44:55Z</dcterms:modified>
  <cp:revision>1</cp:revision>
  <dc:subject/>
  <dc:title>NSG Meeting – 10/30/2008</dc:title>
</cp:coreProperties>
</file>