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F28-9CC1-4846-B99D-EBAB37C4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3E9-52DB-49C2-B2AB-04FE028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FEF-32C0-4E60-BD82-0094A71D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D92-4F17-4E31-9565-FB5936E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F10B-9943-4AFE-9CC5-21162CB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B374-0CDD-4C7B-BE66-3EF297D3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820F-64A8-4E3C-8B1A-7CB0E5F6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E14-A19B-4131-8F8C-AFF2EC0D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424-F1A8-4CEC-AA70-172BC730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A08-83EF-4FA0-9241-3FA3F49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998-364E-4F83-8CBD-80934B5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78B-407F-40C1-B5B8-CB28B981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712A-5598-4870-B425-E13E09B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DAE-9FDE-41ED-B14A-1E30570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DEF0-E519-48A4-A152-987A6ED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215-0133-47C6-8C88-D6BDE01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73E-D3BA-4665-AF4A-CDF79DAB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419-BED5-4102-9986-E7A58B8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6DA-747B-4257-BA84-D9136EE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706-69E0-496D-9F11-C5AAEB8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1E8-E7DB-43C8-86F7-3696ABE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F12-39D9-4DD3-8A3F-8A82676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B34-BB0D-4B5E-8170-BBD7C8B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D1B-AA1F-4BEE-B73E-2AC1660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F3E-7D87-4878-9059-42E84D921B2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D1B-DF95-4630-9B11-A81C24FB099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SG Meeting – 10/30/200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mecoming Wrap-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04 tickets sold / 680 atten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arly 100 outside stud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over $7,000 (with a $2,203 profit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blems, suggestions, etc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ing up nex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-Shirt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eaning activity (Decemb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iling tile project (Januar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dgeball V (February / Marc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6:20Z</dcterms:created>
  <dc:creator>Brent J. Freccia</dc:creator>
  <dc:description/>
  <dc:language>en-US</dc:language>
  <cp:lastModifiedBy>Brent J. Freccia</cp:lastModifiedBy>
  <dcterms:modified xsi:type="dcterms:W3CDTF">2008-10-30T18:44:55Z</dcterms:modified>
  <cp:revision>1</cp:revision>
  <dc:subject/>
  <dc:title>NSG Meeting – 10/30/2008</dc:title>
</cp:coreProperties>
</file>