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D42-1AC0-4688-840E-4D97FB54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F60-F2EB-4172-A82E-0519EEE1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42B-BE1E-415B-8672-459932BB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91DA-307D-4078-9205-6F16AA8B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B184-0BC1-451D-9E82-7A48FCB2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4C0B-6EC9-47FB-91CA-DB1C8419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E55C-88C0-4211-B304-BF4A1B7A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CFF0-EF6B-41BA-BD28-902EFA51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7DAB-5B96-4E8D-A33D-9742EC50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925A-DDD2-4A4F-8E87-2325A8AF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CD28-C1CC-49B4-B5C8-831632C3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127-4A7E-4B1E-BB78-61FD3BDD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F456-D0C4-4FF2-AFC4-FFF5FBAF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8FE6-40FD-44DC-BBBD-E917BC83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317D-4097-40B1-8896-21796A8B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F922-C3B0-48D8-93F9-AFCD3DFC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444C-0B4C-4D8B-B39C-9AB56B8C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648-0634-4855-8BDB-7472409D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EE7C-46FB-456D-937C-E2EA867A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83D-89A9-4976-927D-95F31D37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D5A-4C51-4F45-ABC0-8BD22236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1BF-6E59-466C-9ADF-2AF1CA01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644-EB9E-41A1-9583-FE5DADB9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89B7-4236-45CD-9E9B-87B10B58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C439-2643-4313-899B-D9E7DC1DD2B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0847-C453-4531-BB49-C08F9FDDF02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0/3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20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mecoming Wrap-u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704 tickets sold / 680 attend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early 100 outside stude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de over $7,000 (with a $2,203 profit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oblems, suggestions, etc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ing up next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-Shirts!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eaning activity (December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iling tile project (January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dgeball V (February / Marc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4:26:20Z</dcterms:created>
  <dc:creator>Brent J. Freccia</dc:creator>
  <dc:description/>
  <dc:language>en-US</dc:language>
  <cp:lastModifiedBy>Brent J. Freccia</cp:lastModifiedBy>
  <dcterms:modified xsi:type="dcterms:W3CDTF">2008-10-30T18:44:55Z</dcterms:modified>
  <cp:revision>1</cp:revision>
  <dc:subject/>
  <dc:title>NSG Meeting – 10/30/2008</dc:title>
</cp:coreProperties>
</file>