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7F5-74C8-4D94-AEC8-3F300E91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BCE-48D3-48F0-A4FA-18A9F2F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B71-EE2D-4554-AE2A-BDB6DEE5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38A-7125-49E9-9F1D-7EAD49D5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A0B5-D753-4504-A5F4-C8C7855D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E79C-19BE-47FA-868E-970127F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B590-9D0E-4742-A085-1BB707A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F42-8678-4FE0-93FA-A2F3F0E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A793-B96D-4AB6-B91B-4C0B93E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EADB-A692-46A5-BD6F-BFE903B8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87B5-D679-40D6-8EB6-71B6FA9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B7F-F3E2-4161-87DD-B146EEDC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5B77-F353-4FAF-A7AB-81025A0C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01D7-FBEC-4F6F-81F9-6600A1C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36E6-1B56-4E17-BA8E-F7F81D4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911-3AD6-4ABE-B3F1-846DB378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C3A7-39B1-448C-9155-CC8AAA33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25E-9B97-4A2B-A9D3-22C1CEB9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EDE-5526-4CEF-A369-3C0E6338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0AC-AACB-4BAE-AEB1-3B0F94FA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9C3-ECD7-433D-850D-8A181FE6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6EC-8DE5-492A-B7BD-9008397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C1D-49DD-4C4B-9740-500663F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CBC-5CD7-4937-9CC4-6CB592FB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E5B7-064E-4A5D-8098-F8AF834C0B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7B59-A298-478E-B53D-F718EE8E85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ck changes to no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(10/25) will be called “Shanghai N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 is now on Wednesday, 10/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 Decorations are still on Thursday,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7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Hall: 2009 / E-Hall: 2010 / C-Hall: 2011 / D-Hall: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HOMECOMING FLOATS –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2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ho has the most “registered” 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 D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Hat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Pajama Pants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Business Attire Day (formally “Nerd Da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Seniors Teach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Spirit Day (Yellow / Black / NHS Appar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1:  Nomina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nominated via popular vote in English classes (pick one male and one female based on your grad. Cl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 5 vote getters are on ballot for underclassmen / top 10 for seniors (who have to do the PepFest drag sh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election is held to determine win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2:  Elec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nominate themselves to get placed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signatures needed to place name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ion with all names on ballot takes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Elections – who votes for the King and Qu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1:  Everyone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2:  Just the Senior class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3:  Just the Senior and Junior classes vote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o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,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?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hroom Clean-up / Ceiling Til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g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-in movie / Bowling Alley Mad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ld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Construction: 9/30 and 10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meeting: Thursday, October 2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18T18:07:03Z</dcterms:modified>
  <cp:revision>6</cp:revision>
  <dc:subject/>
  <dc:title>Welcome to E105!</dc:title>
</cp:coreProperties>
</file>