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0DC6-E6E4-4C0D-9843-0FB1BA4A0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0C6D-B754-4C44-B185-600C88470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26CA-31E5-48A9-BFC6-DCC2DA8BC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4C97-79E0-40EB-A193-88BF12F89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51098-53CD-4E9D-9CA8-549D6604D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EB4C0-CE63-48FB-9F6D-4139E8AD1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3060A-D437-4188-8FAE-CA2A47F49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0F123-690B-4F05-80C4-140D8ADDA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7860C-4CED-43B4-BB48-265CF931B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35698-42F5-4057-B8E2-9EED19CA0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D345C-9033-4025-8C0E-BBD1718E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6E2C-BDB5-4EDE-A4FE-E067F44CB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8B374-B2A6-4621-9C6A-A1E82B03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F741A-2053-4AEE-B43A-47A6B6D9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3E08D-2C31-4480-9287-8498803A9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96B71-2C97-4109-BCA5-25DEB96EC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35770-FBC5-4D5D-8CB2-439816A2E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76C4-8DF9-4621-A379-DF392212F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FFC8-BBDA-4E1C-A9BA-8B05DEE8B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D5E8-22FC-4397-9F17-3E960E7B6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EC18-D339-4F7B-8164-E60CB9B99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48DE-625D-47BC-B0BD-B5F0EDD3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5C4A-EE1D-41BC-90F3-83785CAE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152B-8350-4BAB-B9AD-0B712719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D7DBC-2A35-49F0-87B2-B5DFBFF3D85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6FDFB-5FAF-4573-B91F-930237D1C00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ick changes to note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mecoming (10/25) will be called “Shanghai Night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wderpuff is now on Wednesday, 10/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ll Decorations are still on Thursday, 10/2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inning Class gets $750.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-Hall: 2009 / E-Hall: 2010 / C-Hall: 2011 / D-Hall: 201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HOMECOMING FLOATS – Spirit Cens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inning class gets $250.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ass who has the most “registered” wi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tudent Government Meeting (9/18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me Days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nday: Hat D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uesday: Pajama Pants D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dnesday: Business Attire Day (formally “Nerd Day”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ursday: Seniors Teach D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iday: Spirit Day (Yellow / Black / NHS Appare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tudent Government Meeting (9/18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mecoming El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oice #1:  Nomination Meth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udents are nominated via popular vote in English classes (pick one male and one female based on your grad. Clas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p 5 vote getters are on ballot for underclassmen / top 10 for seniors (who have to do the PepFest drag show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election is held to determine winn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oice #2:  Election Meth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udents nominate themselves to get placed on ballo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0 signatures needed to place name on ballo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ection with all names on ballot takes pla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tudent Government Meeting (9/18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mecoming Elections – who votes for the King and Quee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oice #1:  Everyone votes for King and Que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oice #2:  Just the Senior class votes for King and Que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oice #3:  Just the Senior and Junior classes vote for King and Que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tudent Government Meeting (9/18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undta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coming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0,00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udent????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throom Clean-up / Ceiling Tile Proj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dgeba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ive-in movie / Bowling Alley Madnes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eld Day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mecoming Construction: 9/30 and 10/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xt meeting: Thursday, October 2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tudent Government Meeting (9/18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1T19:36:42Z</dcterms:created>
  <dc:creator>Brent J. Freccia</dc:creator>
  <dc:description/>
  <dc:language>en-US</dc:language>
  <cp:lastModifiedBy>Brent J. Freccia</cp:lastModifiedBy>
  <dcterms:modified xsi:type="dcterms:W3CDTF">2008-09-18T18:07:03Z</dcterms:modified>
  <cp:revision>6</cp:revision>
  <dc:subject/>
  <dc:title>Welcome to E105!</dc:title>
</cp:coreProperties>
</file>