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022-F787-46D1-A51B-10478623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504-6A07-47F7-BB6F-319CE02D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181-2849-4A58-B2A5-34E28D4F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617-BFF1-4DDB-AC31-78448B2B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6A82-28FE-4936-B3D5-8EE058FD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0A84-5E8A-4333-AC47-E6B4911F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323A-E9C1-4DA2-B338-BBE12D5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DFE6-5A03-469B-B27F-B17FE1F6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3F97-9C8F-4449-9603-D722F84C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3DAE-68B8-4A3D-995B-8033C314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4DA4-5B3E-40CF-BB98-814C190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FBF-BC30-421D-A414-20795832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EA4D-572E-4D28-80AE-923EA5A4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D935-207C-4FD0-8DA8-653E7883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DE25-4BC3-45B4-B5FA-6B76BE83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973F-98AA-4389-85DC-2D92E308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DC00-3584-40CF-8FFF-CAEDDDA9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8B2-C6BA-4CF9-BB94-2BA782BC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8DC-5B8B-45C9-A691-3CEEA8C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D3E-95F8-4009-A445-E78BD3A5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A02-909C-4780-AA25-3B525973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A51-C305-47FA-A8D5-CE798FB8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5E1-7A24-4B9A-A63D-752E8ED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A6F-EE2B-4271-87A9-A959B5EB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050D-0AB9-48CA-8859-813825D4C0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CA62-2D8B-4D13-95FF-2D591498C6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ck changes to no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(10/25) will be called “Shanghai Ni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 is now on Wednesday, 10/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 Decorations are still on Thursday,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7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-Hall: 2009 / E-Hall: 2010 / C-Hall: 2011 / D-Hall: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HOMECOMING FLOATS –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2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 who has the most “registered” w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me Day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Hat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Pajama Pants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Business Attire Day (formally “Nerd Da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Seniors Teach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Spirit Day (Yellow / Black / NHS Appar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1:  Nomina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nominated via popular vote in English classes (pick one male and one female based on your grad. Cla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 5 vote getters are on ballot for underclassmen / top 10 for seniors (who have to do the PepFest drag sh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election is held to determine win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2:  Elec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nominate themselves to get placed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signatures needed to place name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ion with all names on ballot takes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Elections – who votes for the King and Que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1:  Everyone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2:  Just the Senior class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3:  Just the Senior and Junior classes vote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o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,0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?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hroom Clean-up / Ceiling Til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ge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-in movie / Bowling Alley Mad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eld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Construction: 9/30 and 10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meeting: Thursday, October 2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18T18:07:03Z</dcterms:modified>
  <cp:revision>6</cp:revision>
  <dc:subject/>
  <dc:title>Welcome to E105!</dc:title>
</cp:coreProperties>
</file>