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515-E32C-4B51-B857-4653EFA4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95D-53FC-4558-B0F0-648D5F4E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9EA-E3E2-42A9-909D-9DEA30AA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A9E-A7A2-4C45-AC73-FC5D0B08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839C-3579-4F79-89E6-833689EC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21D4-AA16-47C4-BCE4-89326BF7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2D2A-A2D9-4A05-9F6B-3588ADCC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FB9B-A16C-4877-B393-0D9E8959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645F-6DB6-460C-B645-BFAFCCA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4F06-AA73-4AE6-9FA3-9731D8D2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C42F-175D-4CCC-94C6-D670C90D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722-3C7A-46FD-A11B-5C87B82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834E-57C7-482D-9030-B472F60B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6C43-B268-4EC4-B1AE-121E023A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D345-55B5-4728-96A4-66AF12EF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85EB-072F-4DBE-8D4B-5689DFC8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59C2-349E-4446-AE91-0D7DCB5A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734-98A4-4E5F-A430-2813DDDF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419-EEDE-4428-BB4D-E7134A38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6F0-EC4D-47C2-A354-EAA94EDB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F42-0B52-49A9-AEEB-AB64836E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536-7085-451B-AC06-59CD069D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FD3-B2CB-4441-869A-E2D975CE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1B7-D8EE-4997-868F-9D94557E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0CD6-7A78-483F-8985-050BD9C813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D7D4-CC0A-4D73-A29F-D6DAB2D533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ck changes to no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(10/25) will be called “Shanghai Nigh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 is now on Wednesday, 10/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l Decorations are still on Thursday,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7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-Hall: 2009 / E-Hall: 2010 / C-Hall: 2011 / D-Hall: 20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HOMECOMING FLOATS –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class gets $25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ss who has the most “registered” w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me Day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Hat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Pajama Pants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Business Attire Day (formally “Nerd Da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Seniors Teach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Spirit Day (Yellow / Black / NHS Appar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coming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1:  Nomina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are nominated via popular vote in English classes (pick one male and one female based on your grad. Cla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 5 vote getters are on ballot for underclassmen / top 10 for seniors (who have to do the PepFest drag sh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election is held to determine win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ice #2:  Electio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nominate themselves to get placed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signatures needed to place name on bal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ion with all names on ballot takes p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Elections – who votes for the King and Que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1:  Everyone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2:  Just the Senior class votes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 #3:  Just the Senior and Junior classes vote for King and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nd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co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,0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udent??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hroom Clean-up / Ceiling Tile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ge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-in movie / Bowling Alley Mad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eld 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Construction: 9/30 and 10/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meeting: Thursday, October 2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1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18T18:07:03Z</dcterms:modified>
  <cp:revision>6</cp:revision>
  <dc:subject/>
  <dc:title>Welcome to E105!</dc:title>
</cp:coreProperties>
</file>