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484F-31B3-4B3B-97FB-660AF985A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5EAB-97D7-4A3C-A299-A3E32310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CFBA-94CC-49F2-9E25-D78C01A31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2E89-E3ED-4400-8CB0-173A9A33A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9CAE-17C8-4C24-9252-CF580C3B2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E053-C9DC-44CF-9DFA-6CC815CB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1664-CA16-4E76-8864-85FA083A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B516-C66E-4FB9-81E8-452CF2DC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ACD8-2485-40E5-91CB-C219B33F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A26A-E10D-4AD2-891D-3B334EA4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71FE-A5D8-44E3-9500-D6E752B1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B50D-D3E4-4D7F-BAFC-AD31394A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4250-3E2A-4013-B2D0-9D069A12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6E22-18EC-48F8-A813-56D1AF25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C81C-881E-4314-BDC6-03ECD9CD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CC09-F858-4497-A4D3-80A5FC797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D700-B138-49BF-B0F0-D581FE3DE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8A23-655F-4BA0-9B97-DA1C7357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174E-7DBE-4AA7-B783-C7C763A6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C78B-DB44-471E-959E-58BDB7AC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FC1C-0981-4C8A-8D82-4AAEBE4A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20C9-A4C1-4840-BE42-D5DA36E2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40AF-F7A0-48A9-A9C3-B184EC29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6835-FA9C-4DEB-9D49-9E4BC17B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30A9-0E95-4EF7-BFA3-FF9CEB8A8D3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6545-A7D9-49D1-99D8-D577838FF5B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ewark.wikispaces.com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4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lcom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rpose of NS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we oper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 Lead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ebsite –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www.newark.wikispaces.c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ecoming upd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wderpuff/Hall Decorations: Thursday 10/2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pFest/Game: Friday 10/2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nce: Saturday 10/25 from 7-10 pm (W. Gy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floats this year / NHS Spirit Cens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4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4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4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truction Days / Advertising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esday 9/30 and Tuesday 10/7 (sign-up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ck the Spirit Days (pick fou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jama pants 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t 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smatch 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win 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ersey 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ro 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undtable / next meeting: Thursday 9/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4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4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43400" y="3124080"/>
            <a:ext cx="457200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Inside-out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Backwards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Nerd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enior teach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College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19:36:42Z</dcterms:created>
  <dc:creator>Brent J. Freccia</dc:creator>
  <dc:description/>
  <dc:language>en-US</dc:language>
  <cp:lastModifiedBy>Brent J. Freccia</cp:lastModifiedBy>
  <dcterms:modified xsi:type="dcterms:W3CDTF">2008-09-03T19:33:50Z</dcterms:modified>
  <cp:revision>4</cp:revision>
  <dc:subject/>
  <dc:title>Welcome to E105!</dc:title>
</cp:coreProperties>
</file>