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74D-4F42-4E7E-AA7B-6863A762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8471-BD43-4768-A306-C6AAD89D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488-AF3C-40CC-87CF-FC492659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298-08B8-4F3B-B693-53AC18D8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A389-04DB-4D53-8BEC-D02EAB6A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D6D8-5F44-4BF0-B636-A006DC43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ED4C-6455-4BCA-9E2F-09ABBBDB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97CD-7796-48C4-909D-4B5F6616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05CA-B506-4905-8C79-72AF9277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1C39-CEB3-4860-938B-CC60775B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36A5-0722-4DCA-BF2F-A695584D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B831-F3D7-4796-B548-DBC889F7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F078-1C7D-445D-B3EE-C61CFC6B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82EA-6A45-4ED2-B04D-37E08C6E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CE72-A6D0-4AF7-8911-7063CCDD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1139-75F9-4918-9F5B-4035AC25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C999-7E2D-4C79-9572-3B74E468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1E7-7B7D-4D74-A937-B60D3857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E79-DE41-4A73-A539-35B93AAE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31E-827D-41E7-9B7A-67B34A52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1BC-C8E7-478A-8A54-8F989535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1EC-933E-4C2A-80C2-5E3E839C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ECD-A3CF-454A-948C-7B166623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812-5FAF-4678-BF26-CC60DC32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B140-FE6A-4F06-BC9C-751AF76B4E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B6EC-6814-48D5-B1C5-DB565B2A7B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ewark.wikispaces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co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pose of NS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we ope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bsite –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newark.wikispaces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upd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derpuff/Hall Decorations: Thursday 10/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pFest/Game: Friday 10/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ce: Saturday 10/25 from 7-10 pm (W. Gy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floats this year / NHS Spirit Cen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ion Days / Advertis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 9/30 and Tuesday 10/7 (sign-u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ck the Spirit Days (pick fou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jama pants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t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smatch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in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rsey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ro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ndtable / next meeting: Thursday 9/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3124080"/>
            <a:ext cx="4572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Inside-out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Backwards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Nerd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enior teach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Colleg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9:36:42Z</dcterms:created>
  <dc:creator>Brent J. Freccia</dc:creator>
  <dc:description/>
  <dc:language>en-US</dc:language>
  <cp:lastModifiedBy>Brent J. Freccia</cp:lastModifiedBy>
  <dcterms:modified xsi:type="dcterms:W3CDTF">2008-09-03T19:33:50Z</dcterms:modified>
  <cp:revision>4</cp:revision>
  <dc:subject/>
  <dc:title>Welcome to E105!</dc:title>
</cp:coreProperties>
</file>