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244-99E2-414C-AA60-255BFF14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2D0-9834-4B9D-BBB3-4033410D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CF7-ADA0-4282-8B8B-2C83E000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0AB-B04E-4E57-9904-9466F9C2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937D-70C6-43E4-955D-5970AD15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623-8710-4D59-ACF8-5B2FA55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BD5-396C-4827-980E-096F907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1C12-83CC-4DBC-80FE-58B020E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F61C-D960-4559-A6EE-F4B04AC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2FF-4B22-4AAA-8263-3DB1F579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DA05-D218-47EA-ADD9-88CFE70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119-5B69-4F69-B92D-637BAD4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AEF3-7287-4AF1-A2B6-0CEF7CA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EF9-F846-4FDC-8E2A-B8B6B00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E16B-2E13-429B-A6E2-E0680D3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167-7C01-4B40-872A-7AAA8345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DC13-522C-4B49-A26D-92D123E5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40D-E4A3-4519-BD54-FB4BC26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93E-AA80-47C9-9340-EACA6A8A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12C-5896-4401-B774-E76C771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2FD-8502-469C-AF18-7A1A4B5A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61D-7547-4B92-8C5D-0F8E42E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8D0-210F-4B69-AF1B-CBC892D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3FD-29C4-46E9-BD16-C142B73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417-E73C-4448-BF3F-0C5658A213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846-5B0C-4D86-9F1C-CBB5845F30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ark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of NS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op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bsite –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newark.wikispace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coming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derpuff/Hall Decorations: Thursday 10/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Fest/Game: Friday 10/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ce: Saturday 10/25 from 7-10 pm (W. Gy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loats this year / NHS Spirit Cen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 Days / Advert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 9/30 and Tuesday 10/7 (sign-u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the Spirit Days (pick fo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jama pants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smatc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n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sey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o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ndtable / next meeting: Thursday 9/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Government Meeting (9/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124080"/>
            <a:ext cx="4572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side-ou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Backwards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erd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enior t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lleg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Brent J. Freccia</cp:lastModifiedBy>
  <dcterms:modified xsi:type="dcterms:W3CDTF">2008-09-03T19:33:50Z</dcterms:modified>
  <cp:revision>4</cp:revision>
  <dc:subject/>
  <dc:title>Welcome to E105!</dc:title>
</cp:coreProperties>
</file>