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22B-137F-4306-B92E-2EF8A9ED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1EF-1529-44A4-AAD7-70A17E00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0A4-1B10-4D53-A4D4-BFD03436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579-A0B5-4F72-9AFB-BFBAC3A4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4155-B833-4E54-A264-30FCCA6F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CEFB-6998-483F-A526-2934D8C5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23A3-E8E3-4CC1-A603-F519FE88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30C-D8C1-4D58-8A20-F7BB77DF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5D29-89F6-4194-B171-8D96B921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F7D3-8B2D-48BB-B530-387E4B00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673A-9BD2-46C3-99D9-EE16B86E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F1E-F714-4914-B2E0-2AB7DD36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CDCF-26D6-436E-86BC-E08EB66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13DB-BFF7-4082-A020-36F47E2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828E-1F91-4EBC-A0F8-645C2E1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D249-304D-408C-84F0-EA58B668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E778-80F4-4212-98F1-EF561EF5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DF4-1435-4FF0-BB66-B95E99A4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20E-C6D9-4797-A219-E24F098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A75-4C56-4804-92A6-8231CAF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AEE-962B-4398-8631-F6339A2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9F5-54C5-4CFF-9510-BEC9D4D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22F-17B5-4874-9089-6ED916E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76B-DA4A-4605-B82E-D3519FD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1B54-BCA4-4556-8E29-3B85F67152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6E1D-5FBE-4D5F-BC6F-8D45F8D839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ark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of NS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op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bsite –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newark.wikispaces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/Hall Decorations: Thursday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Fest/Game: Friday 10/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ce: Saturday 10/25 from 7-10 pm (W. Gy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loats this year / NHS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 Days / Advert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 9/30 and Tuesday 10/7 (sign-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the Spirit Days (pick fo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jama pants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matc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n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sey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o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ndtable / next meeting: Thursday 9/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3124080"/>
            <a:ext cx="4572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side-ou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ackwards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erd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enior t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lleg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03T19:33:50Z</dcterms:modified>
  <cp:revision>4</cp:revision>
  <dc:subject/>
  <dc:title>Welcome to E105!</dc:title>
</cp:coreProperties>
</file>